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EA9A-4900-40FA-9040-CE2AF506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DA27-10E2-4DF8-801D-3B82015E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5D46-936B-428A-A8B1-BF57300E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B54-0146-4079-8106-D7AFE376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7A1F-0FFD-4359-B56D-6C2A9549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5DCB-04DC-4835-BDF0-26232F5A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1437-96C8-49AE-91B6-6875A3D9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2596-4999-49D8-9AD0-91DC8546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C9A2-5628-4083-84E0-C9B6E3D4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3433-AACE-4F48-B991-B32392B8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E026-8964-47BD-A507-F1420308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DBA3-F64E-48E4-819C-4F519E51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B4C3-7A8F-4695-9BB1-62343E94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61FE-BC62-4DCB-8FEA-7174E4B2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224C-FC87-4FE4-8E9C-6A6E3AFC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374E-2540-4021-BBF2-C3F74D27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2D0E-DD61-4E79-99E4-F07FA08A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B4C5-7BD0-499C-828C-DDEDE077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3844-1982-46B2-9143-BCF00EF0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C3B-DA8D-4660-9935-62C550BA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365C-3280-41A4-920C-FF2DA938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E1F-DF9E-40A8-B654-FCD9F632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7F17-6982-4FC7-81B5-17AB3A22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EA90-148F-4BF9-9D79-E5CFE3B9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1B5B-615D-4900-AAA4-B21B9A29059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9EB8-2DD4-4918-AF2C-E4B216CA6DE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Тема:Синонимы и антонимы.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676160" y="4648320"/>
            <a:ext cx="5691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Автор: Субботин Сергей Владимирович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Ученик 5 класса «Русской гимназии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Содержание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инонимы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Для чего нужны синонимы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онтекстуальные синонимы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нтонимы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Для чего нужны антонимы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Синонимы.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инонимы – это слова, которые имеют схожее лексическое значение, но пишутся и звучат по-разному (например, дом – здание)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ля чего нужны синонимы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инонимы нужны, чтобы обогатить нашу речь, чтобы она была разнообразной и яркой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Также синонимы помогают нам избежать повторов, тавтологии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Контекстуальные синонимы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Контекстуальные синонимы – это слова, сближение которых по значению происходит лишь в условиях определенного контекста, причем за пределами этого контекста они не являются синонимами (например, «День был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августовский, знойный,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томительно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скучный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»-А.П.Чехов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Антонимы.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нтонимы – это слова, которые имеют противоположные лексические значения (например, «большой – маленький; высоко – низко»)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ля чего нужны антонимы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нтонимы, как и синонимы, нужны нам для того, чтобы наша речь была богатой, разнообразной, живой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нтонимы помогают нам избежать повторов в речи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06T05:50:0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